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A7DE-4F73-4457-A4FC-1FEEBFD4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E01E-F6CC-4BC1-BFB7-46CBA29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41F0-ECAF-4E6C-B5C3-245DB3D7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9056-2B9F-4C18-8638-78D702D7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B8AE-DD47-446E-930A-AEC96FBD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4CF7-A8B0-47DF-94B7-B5FD2BA1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4A0-95A2-4F66-A15A-A96AA34C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BEF3-03AE-4C8C-BB77-012B76D2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ECDE-6B50-492B-A3C4-5F400513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EAA-15CF-48F2-AEFE-8FBB8119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C2D-170B-45E1-B82E-784C9B3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5CFA-5F7F-4DDF-B845-17949876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DA8E-E577-446D-AAE1-690AB55A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7CE5-6EEC-4565-A1BE-BA42DD62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CBD2-A058-40B8-8A38-438D8C1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2774-8E2F-46BD-8A73-6F075D50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44CB-6F4F-4328-9C76-F2E4A539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9715-4C46-4FB4-8798-95EA82F8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0352-93B5-4F10-A249-F1D4AC7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672E-45CB-4790-AFB0-AC83339D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ECD2-FFA0-4DCD-89E3-2028AE12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43CA-F526-4564-B847-0417F6FE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2E47-1B16-4509-A017-9004ECE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E5B9-9CDA-40F2-AAAB-EE50EBBB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BFE5-52DD-4CC5-8FF8-345A153597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A12D-C1A7-43FA-8397-15BCF07283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4076640"/>
            <a:ext cx="14436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1557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1.Berki Cristina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ffff"/>
                </a:solidFill>
                <a:latin typeface="Garamond"/>
              </a:rPr>
              <a:t>2.Bodea Claudia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ffff"/>
                </a:solidFill>
                <a:latin typeface="Garamond"/>
              </a:rPr>
              <a:t>3.Bodea Valentin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360" y="1267920"/>
            <a:ext cx="640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e8ba"/>
                </a:solidFill>
                <a:latin typeface="Garamond"/>
              </a:rPr>
              <a:t>Prism</a:t>
            </a:r>
            <a:r>
              <a:rPr b="1" lang="ro-RO" sz="8800" spc="-1" strike="noStrike">
                <a:solidFill>
                  <a:srgbClr val="bae8ba"/>
                </a:solidFill>
                <a:latin typeface="Garamond"/>
              </a:rPr>
              <a:t>ă patrulateră dreaptă</a:t>
            </a:r>
            <a:endParaRPr b="1" lang="en-US" sz="8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2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95640" y="189000"/>
          <a:ext cx="442908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9000"/>
                    <a:ext cx="442908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256560"/>
            <a:ext cx="65880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8560" y="691920"/>
            <a:ext cx="734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lemente:-v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furi:A,B,C,D,A’,B’,C’,D’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muchii:-ale bazelor:AB,BC,CD,DA,A’B’,B’C’,C’D’,D’A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laterale:AA’,BB’,CC’,DD’(sunt egale cu 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mea prismei notat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cu 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diagonala:-bazei:AC,DB,A’C’,B’D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fe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i laterale:AB’,BC’,CD’,AD’,A’B,B’C,C’D,A’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paralelipipedului:A’C,B’D,C’A,D’B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fe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le:-bazelor:p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laterale:dreptunghiuri congru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2171880" cy="314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5120640"/>
            <a:ext cx="442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05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ria bazei : 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ria lateral</a:t>
            </a:r>
            <a:r>
              <a:rPr b="0" lang="ro-RO" sz="4400" spc="-1" strike="noStrike">
                <a:solidFill>
                  <a:srgbClr val="ffffff"/>
                </a:solidFill>
                <a:latin typeface="Garamond"/>
              </a:rPr>
              <a:t>ă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 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ria total</a:t>
            </a:r>
            <a:r>
              <a:rPr b="0" lang="ro-RO" sz="4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: 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2Ab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Volum : 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197000"/>
            <a:ext cx="2786040" cy="403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23840" cy="19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5012280"/>
            <a:ext cx="369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915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 prisma patrulateră regulată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CDA’B’C’D’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unoaşte lungimea laturii bazei de </a:t>
            </a: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ş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A’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a  2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e muchia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A’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se ia un punct M,astfel ca AM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 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.Să se determine măsura unghiului format de planu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BD)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 ş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BC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b.Să se determine măsura unghiului format de dreapta M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cu planu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’B’C’).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47640" cy="28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204840" cy="2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80360" y="2924280"/>
            <a:ext cx="204840" cy="28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93080" y="3284640"/>
            <a:ext cx="647640" cy="28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7:02:04Z</dcterms:created>
  <dc:creator>owner</dc:creator>
  <dc:description/>
  <dc:language>en-US</dc:language>
  <cp:lastModifiedBy>owner</cp:lastModifiedBy>
  <dcterms:modified xsi:type="dcterms:W3CDTF">2011-02-15T18:21:40Z</dcterms:modified>
  <cp:revision>7</cp:revision>
  <dc:subject/>
  <dc:title>Diapozitivul 1</dc:title>
</cp:coreProperties>
</file>